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BEC-86F0-4AE8-A9B1-F32B28CF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56-BB73-40E9-801B-ABB56DC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F02-8714-406D-8E35-F2F8AC3F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FEB-5E03-433D-9098-1BB1C55C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78A-ABD0-4257-A621-8470F835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A28-6A30-49BE-83DD-54B7D14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0E4-5B6A-4D27-82F2-A1A1478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167-D096-494A-A155-2F8D1A3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982-8F69-4113-9220-B2AF4C0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2E4-A7D1-4D68-8254-B0495389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64A-A5ED-4C28-8DA8-22EFDFD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499-2AE6-43FE-98D0-D62411C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D132-27DD-4E95-A9AF-89049FA4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48:12Z</dcterms:created>
  <dc:creator>Rooseveltlab</dc:creator>
  <dc:description/>
  <dc:language>en-US</dc:language>
  <cp:lastModifiedBy>Rooseveltlab</cp:lastModifiedBy>
  <dcterms:modified xsi:type="dcterms:W3CDTF">2008-10-30T21:48:51Z</dcterms:modified>
  <cp:revision>1</cp:revision>
  <dc:subject/>
  <dc:title>Slide 1</dc:title>
</cp:coreProperties>
</file>